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716E8E5-28C9-45F7-A258-58AD2AF24A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261100D-928C-43EA-B78F-F729804825C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slide and then slides for Don to outline PhD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01411D0-0F5C-404E-9C1D-961E205F69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FD04421-BA7D-4151-A0D1-E9F8F7859D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EA308FB-292E-41BA-9825-221698F3EE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8446E2-B2BC-4AD2-B08D-06AD952E760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BACF26-A895-4C18-BA01-14E91003A2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ECBB1A6-94AC-4642-87D2-7CECC3B0F2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4EE2BAD-9CDA-4D44-B6EB-D0CC6136CC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C2BEAF2-AB07-4FC5-BF59-85A3C1587A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EFC526-D01F-4A94-964A-25A2C1A3C1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8D58D4-9AE6-447F-A59A-851F3E8AC9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0FDF12F-EA42-4E2A-84DD-5FAB10EC5C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905F-7F2C-435F-B210-6DE8E193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7B54-104F-479D-A72B-E25A92C5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F390-3BFD-4AA2-880E-CBF407415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5C33-A119-450E-806F-7CC9F2AF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B2D-1B26-4C2C-B0BB-5B71628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40B-DFA7-435E-B691-E624BAAB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913-778E-4D46-ABB3-82BDA852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E1BD-FF9A-4E07-B01E-06EE01B0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FBF-88A0-4B1E-92F2-D21DC343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020F-7A99-417D-8EE7-E947B03E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A241-38E4-461E-BDC3-387FAFDB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B8E1-20FB-4619-98D8-EC91AB6A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transkills logo resized"/>
          <p:cNvPicPr/>
          <p:nvPr/>
        </p:nvPicPr>
        <p:blipFill>
          <a:blip r:embed="rId2"/>
          <a:stretch/>
        </p:blipFill>
        <p:spPr>
          <a:xfrm>
            <a:off x="6877080" y="5877000"/>
            <a:ext cx="2124000" cy="78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ABA1-B9BD-4FE9-9A13-D1D6590CB9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685800"/>
            <a:ext cx="769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0528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228600" y="152280"/>
            <a:ext cx="76960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228600" y="685800"/>
            <a:ext cx="769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7" descr=""/>
          <p:cNvPicPr/>
          <p:nvPr/>
        </p:nvPicPr>
        <p:blipFill>
          <a:blip r:embed="rId3"/>
          <a:stretch/>
        </p:blipFill>
        <p:spPr>
          <a:xfrm>
            <a:off x="8001000" y="152280"/>
            <a:ext cx="838080" cy="8305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8"/>
          <p:cNvSpPr/>
          <p:nvPr/>
        </p:nvSpPr>
        <p:spPr>
          <a:xfrm>
            <a:off x="304920" y="2728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rangements and Proced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19"/>
          <p:cNvSpPr/>
          <p:nvPr/>
        </p:nvSpPr>
        <p:spPr>
          <a:xfrm>
            <a:off x="380880" y="685800"/>
            <a:ext cx="491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hool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formatics, University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rrangements and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5280" y="2854440"/>
            <a:ext cx="81723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formatics Graduate Sch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f things go wro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practical things (scholarship payments etc.) can be sorted out by Graduate School admin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follow the 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incipal supervisor, your second supervi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Institute dir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al Tutor for Research Students: Nigel Topham (alternatively: Alex Lascar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an of Research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iversity advice/suppor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Keeping things going r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, Facilities &amp; Student Development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ion groups, led by students representativ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ademic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udent wel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eer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ly meetings with Grad School sta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genda dictated by student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olunteers nee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tacts and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r institute servi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aduate School office (IF 2.3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il McGillivray, Pat Ferguson, Margaret McMillan, Cathy Gray, Anna Walczy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 Sannella, Head of Graduate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ege Postgraduate O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http://www.inf.ed.ac.uk/admin/IG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ervisory arran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nitoring and miles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rses,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things go wr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ing things going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pervisory arrang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has a principal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have two co-super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managing your work, in all respects: planning, advice, criticism, resourc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will have a second supervisor, often appointed at end of first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back-up for the principal supervisor, complementary expert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itoring and Milestones: Year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: Discuss career aspirations &amp;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4: Agree research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6: Submit literatur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9: Submit thesis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0: Review with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2 (supervisor): Formal first year report, confirming PhD (or n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review of all Ph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itoring and Milestones: Year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: Review career aspirations &amp; training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6: Review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9: Submit poster &amp; 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0: Review with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2 (supervisor): Formal annu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review of all Ph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onitoring and Milestones: Year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: Completion strategy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4: Complete thesis 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5: Present work at semi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0: Submit draft thesis &amp; progress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nth 11: Review with written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th 12 (supervisor): Formal annual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review of all PhD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urses and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ject-specific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FCS theory cour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Sc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formatics induction/training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ke this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to 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ertain recommended ones eac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rable skills cour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sters, talks,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nal ve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ster exhib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b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rnal ven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sh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vel and Research Fu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aduate School supports travel to conferences etc., experimental subject fe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minal allowance of £1000 total/stu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You need to apply!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ee IGS web pages. Admin arrangements are changing – application will be via your institu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 advantage of other funding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funding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supervisor’s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ference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7:10:21Z</dcterms:created>
  <dc:creator>JonTurner</dc:creator>
  <dc:description/>
  <dc:language>en-US</dc:language>
  <cp:lastModifiedBy>Don Sannella</cp:lastModifiedBy>
  <dcterms:modified xsi:type="dcterms:W3CDTF">2010-09-27T13:29:04Z</dcterms:modified>
  <cp:revision>177</cp:revision>
  <dc:subject/>
  <dc:title>PowerPoint Presentation</dc:title>
</cp:coreProperties>
</file>