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5"/>
          </p:nvPr>
        </p:nvSpPr>
        <p:spPr>
          <a:xfrm>
            <a:off x="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 type="sldNum" idx="6"/>
          </p:nvPr>
        </p:nvSpPr>
        <p:spPr>
          <a:xfrm>
            <a:off x="384984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FAD4E10-DA5F-47D8-9C8B-1799DF2C9C2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4984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C193F9E-FD6C-4CB9-BF96-A42F9045C4C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elcome slide and then slides for Don to outline PhD milest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4984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430A711-7419-4329-9CE7-9F759B75E51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4984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C9C375A-4E14-4BC9-B03B-A6DAC778B1E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4984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1874A9D-F82A-47DF-860C-EE496A2D6CF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4984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19D0B25-631F-4E11-B080-43C25A52771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4984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624829B-FEE1-4BB3-9761-4F6A8FD6887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4984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F050F70-93FD-41B7-8DF7-0098B9CA88F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4984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5D3AD2F-1286-4C28-B4CE-4808A6F5932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4984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A74A049-E030-4D24-BAEA-F8E34B33748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4984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3227BED-3C63-4791-B483-C99B3BCE628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4984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A861A22-EA83-4F1D-B702-AE7CF50D938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4984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89B0B90-7295-4705-9E1D-EBFE4D11863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C4F8-FC58-4E15-A729-84FCD1A13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7F40-AE7E-4208-AED9-EDE118850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ED21-65C8-4E37-9F96-9E05BCAA5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6028-B61C-41E5-817B-05B811C35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F5BD-524F-41B7-9785-EE6B0503C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7FD4-2C6F-48C5-9638-1108BB5A2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EBB3-D9D2-4140-B850-EEAE9EBC7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5741-BC53-4129-BB29-A01EF6272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8859-E047-49C9-8E69-4324107F4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255E-BDFF-4B82-9278-DC9468BA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F13C-D94C-4CAB-86D3-28DBAD0FC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6984-C969-49C3-9ADA-67AB33194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transkills logo resized"/>
          <p:cNvPicPr/>
          <p:nvPr/>
        </p:nvPicPr>
        <p:blipFill>
          <a:blip r:embed="rId2"/>
          <a:stretch/>
        </p:blipFill>
        <p:spPr>
          <a:xfrm>
            <a:off x="6877080" y="5877000"/>
            <a:ext cx="2124000" cy="784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C0216-E1EB-45B8-BCFA-46A0EF1F538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228600" y="685800"/>
            <a:ext cx="7696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40528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5"/>
          <p:cNvSpPr/>
          <p:nvPr/>
        </p:nvSpPr>
        <p:spPr>
          <a:xfrm>
            <a:off x="228600" y="152280"/>
            <a:ext cx="7696080" cy="533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6"/>
          <p:cNvSpPr/>
          <p:nvPr/>
        </p:nvSpPr>
        <p:spPr>
          <a:xfrm>
            <a:off x="228600" y="685800"/>
            <a:ext cx="7696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Picture 17" descr=""/>
          <p:cNvPicPr/>
          <p:nvPr/>
        </p:nvPicPr>
        <p:blipFill>
          <a:blip r:embed="rId3"/>
          <a:stretch/>
        </p:blipFill>
        <p:spPr>
          <a:xfrm>
            <a:off x="8001000" y="152280"/>
            <a:ext cx="838080" cy="830520"/>
          </a:xfrm>
          <a:prstGeom prst="rect">
            <a:avLst/>
          </a:prstGeom>
          <a:ln w="0">
            <a:noFill/>
          </a:ln>
        </p:spPr>
      </p:pic>
      <p:sp>
        <p:nvSpPr>
          <p:cNvPr id="11" name="Text Box 18"/>
          <p:cNvSpPr/>
          <p:nvPr/>
        </p:nvSpPr>
        <p:spPr>
          <a:xfrm>
            <a:off x="304920" y="272880"/>
            <a:ext cx="495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rangements and Proced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Text Box 19"/>
          <p:cNvSpPr/>
          <p:nvPr/>
        </p:nvSpPr>
        <p:spPr>
          <a:xfrm>
            <a:off x="380880" y="685800"/>
            <a:ext cx="491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chool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Informatics, University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Edinbur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1844640"/>
            <a:ext cx="8001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Arrangements and Proced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395280" y="2854440"/>
            <a:ext cx="8172360" cy="16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formatics Graduate Schoo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f things go wro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st practical things (scholarship payments etc.) can be sorted out by Graduate School admin sta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therwise, follow the seque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r principal supervisor, your second supervi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r Institute dir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sonal Tutor for Research Students: Nigel Topham (alternatively: Alex Lascari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ad of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an of Research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iversity advice/suppor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Keeping things going rig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earch, Facilities &amp; Student Development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cussion groups, led by students representativ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ademic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udent welf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reer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min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earch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nthly meetings with Grad School sta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genda dictated by student represent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olunteers need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ntacts and lin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r institute service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aduate School office (IF 2.3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il McGillivray, Pat Ferguson, Margaret McMillan, Cathy Gray, Anna Walczy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n Sannella, Head of Graduate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llege Postgraduate Off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http://www.inf.ed.ac.uk/admin/IG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ervisory arran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nitoring and milest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urses, tr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things go wr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eping things going 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pervisory arrang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body has a principal supervi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have two co-super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ible for managing your work, in all respects: planning, advice, criticism, resourc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body will have a second supervisor, often appointed at end of first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back-up for the principal supervisor, complementary expert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onitoring and Milestones: Year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nth 1: Discuss career aspirations &amp; training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nth 4: Agree research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nth 6: Submit literature 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onth 9: Submit thesis propo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onth 10: Review with written feed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nth 12 (supervisor): Formal first year report, confirming PhD (or no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stitute review of all PhD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onitoring and Milestones: Year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nth 1: Review career aspirations &amp; training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nth 6: Review 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onth 9: Submit poster &amp; progress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onth 10: Review with written feed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nth 12 (supervisor): Formal annual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stitute review of all PhD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onitoring and Milestones: Year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onth 1: Completion strategy 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nth 4: Complete thesis out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nth 5: Present work at semin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onth 10: Submit draft thesis &amp; progress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onth 11: Review with written feed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nth 12 (supervisor): Formal annual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stitute review of all PhD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urses and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bject-specific tr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FCS theory cour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Sc mo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formatics induction/training s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ke this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to 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ertain recommended ones each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nsferrable skills cour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sters, talks, pa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nal ven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stit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ster exhib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rbu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ernal ven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ksh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our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ravel and Research Fun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aduate School supports travel to conferences etc., experimental subject fee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minal allowance of £1000 total/stud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You need to apply!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See IGS web pages. Admin arrangements are changing – application will be via your institu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ke advantage of other funding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r funding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r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r supervisor’s gr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ference it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9T07:10:21Z</dcterms:created>
  <dc:creator>JonTurner</dc:creator>
  <dc:description/>
  <dc:language>en-US</dc:language>
  <cp:lastModifiedBy>Don Sannella</cp:lastModifiedBy>
  <dcterms:modified xsi:type="dcterms:W3CDTF">2010-09-27T13:29:04Z</dcterms:modified>
  <cp:revision>177</cp:revision>
  <dc:subject/>
  <dc:title>PowerPoint Presentation</dc:title>
</cp:coreProperties>
</file>