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2B6F2A-DAF8-40C9-B46C-E55D045FC82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BF049EF-7622-4C33-B220-196DB4428B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slide and then slides for Don to outline PhD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F386E5-B72F-45DC-A675-F4686D226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62D668-6A0C-4059-BA38-0F566F95E6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5B7E98C-9D80-4D1E-B7FA-E1F240952C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b to outline some of the key milestones and targets that PhD students need to be aware of from the start of the Ph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 that you need to have done to get a PhD?  These are described in the grounds for award of a PhD.  These are the targets for you to aim for – that you can produce and defend a PhD thesis that meets these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slides follow that spell out the details of the grounds for award of a PhD and what they m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CTION – JT check slides 3-6 are still up to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A3B404E-E596-4E0F-8602-9FD32D87BD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233E618-4E6E-4E47-A1A3-B9112ADFAA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E29412F-2346-4D9D-B468-41B45A5A16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31CDB0-6074-478C-9566-42C7F83DF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7185303-F057-468D-9CB3-7210B8AC7E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B2CC3F-4BC7-4190-8336-0E3CD09287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7D41840-0DEF-4286-9FFC-542467F5A4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A37-67F7-4BC9-B58E-F3962EEE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901F-1861-455C-8870-00CDC155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7D23-138E-43E8-BFB7-B7F1266D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EF08-9DD8-4422-B0CF-9FB27A92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227-4F96-4641-9B18-C3831279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BD92-A787-4A95-9595-66787575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844-1EE0-41F0-B5C1-2116BCAF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995-11E8-4723-A71F-C0B23C83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57D0-5C68-4294-91E4-96D3A211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7B6-AB4B-4CB0-BC9A-ABB2AE6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178-D043-403C-8CF3-A0E7822F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20F5-6134-4797-8A35-6255F1BD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transkills logo resized"/>
          <p:cNvPicPr/>
          <p:nvPr/>
        </p:nvPicPr>
        <p:blipFill>
          <a:blip r:embed="rId2"/>
          <a:stretch/>
        </p:blipFill>
        <p:spPr>
          <a:xfrm>
            <a:off x="6877080" y="5877000"/>
            <a:ext cx="212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78B7-D802-42BD-A3C3-D79EB0756E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0528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228600" y="152280"/>
            <a:ext cx="76960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"/>
          <p:cNvPicPr/>
          <p:nvPr/>
        </p:nvPicPr>
        <p:blipFill>
          <a:blip r:embed="rId3"/>
          <a:stretch/>
        </p:blipFill>
        <p:spPr>
          <a:xfrm>
            <a:off x="8001000" y="152280"/>
            <a:ext cx="838080" cy="8305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8"/>
          <p:cNvSpPr/>
          <p:nvPr/>
        </p:nvSpPr>
        <p:spPr>
          <a:xfrm>
            <a:off x="304920" y="2728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ging Your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9"/>
          <p:cNvSpPr/>
          <p:nvPr/>
        </p:nvSpPr>
        <p:spPr>
          <a:xfrm>
            <a:off x="380880" y="685800"/>
            <a:ext cx="491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formatics, Universit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ps.ed.ac.uk/11-12/regulations/postgrad.php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Arial"/>
              </a:rPr>
              <a:t>Managing Your Ph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5280" y="2854440"/>
            <a:ext cx="8172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formatics Graduate 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6920" y="1031400"/>
            <a:ext cx="81612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irst step: Thesis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773360"/>
            <a:ext cx="889956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ly defined and appropriat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 and realistic re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visory team and required resources are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so far is satis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mission in month 9 (or month 15-18 if part-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81612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is proposal Assessmen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4080" y="1773360"/>
            <a:ext cx="889956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(15-25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al presentation to Review Panel (Supervisor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t least one other) – procedure depends on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ten feedback to you, with copy to Graduat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iversity Regulations: </a:t>
            </a:r>
            <a:br>
              <a:rPr sz="2200"/>
            </a:b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rps.ed.ac.uk/11-12/regulations/postgrad.php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rounds for award for the degree of PhD by research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0" y="2205000"/>
          <a:ext cx="8899560" cy="519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5000"/>
                    <a:ext cx="889956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6920" y="1412640"/>
            <a:ext cx="80769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of PhD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candidate must have demonstrated that they are capabl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31474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rsuing original research in the field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ng particular research projects to the general body of knowledge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ing the results of the research in a critical and scholarl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559908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D Assessment/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3141720"/>
            <a:ext cx="5543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ly on your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by or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thesi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29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n original work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e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 to knowledge in or understanding of the field of study (how to measure significan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 materi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th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ublication (doesn’t have to be published, bu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3640" y="907560"/>
            <a:ext cx="456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-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8880" y="2134800"/>
            <a:ext cx="85294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adequate knowledge of the field of study and relevant literatur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e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erature 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e exercise of critical judgement with regard to both the candidate’s work and that of other scholars in the same general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5173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– </a:t>
            </a:r>
            <a:r>
              <a:rPr b="1" lang="en-GB" sz="2800" spc="-1" strike="noStrike">
                <a:solidFill>
                  <a:srgbClr val="a3a3e0"/>
                </a:solidFill>
                <a:latin typeface="Arial"/>
              </a:rPr>
              <a:t>con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9360" y="226044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 material which presents a unified body of work such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uld reasonably be achieved on the basis of three years postgraduate study an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atisfactory in its literary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280" y="1125000"/>
            <a:ext cx="510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– </a:t>
            </a:r>
            <a:r>
              <a:rPr b="1" lang="en-GB" sz="2800" spc="-1" strike="noStrike">
                <a:solidFill>
                  <a:srgbClr val="a3a3e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" y="2637000"/>
            <a:ext cx="91440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full and adequate referenc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herent structure understandable to a scholar in the same general field with regard to intentions, background, method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559908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D Assessment/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6000" y="3141720"/>
            <a:ext cx="5543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ly on your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ssentially PASS/FAIL (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ions are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7:10:21Z</dcterms:created>
  <dc:creator>JonTurner</dc:creator>
  <dc:description/>
  <dc:language>en-US</dc:language>
  <cp:lastModifiedBy> </cp:lastModifiedBy>
  <dcterms:modified xsi:type="dcterms:W3CDTF">2011-09-24T11:29:41Z</dcterms:modified>
  <cp:revision>157</cp:revision>
  <dc:subject/>
  <dc:title>PowerPoint Presentation</dc:title>
</cp:coreProperties>
</file>