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C015D9-B2FF-431C-8CD5-086DC58886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36965CA-7124-47EC-8089-7EA2BA8CAD8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come slide and then slides for Don to outline PhD mile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EF5EEA8-7660-4D8B-8A9B-5E7E07E62E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7648A4B-C8A2-49B8-B3DF-FE8BB70149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9665A5-C6F1-462C-88D2-ABBD67B334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b to outline some of the key milestones and targets that PhD students need to be aware of from the start of the PhD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hat is it that you need to have done to get a PhD?  These are described in the grounds for award of a PhD.  These are the targets for you to aim for – that you can produce and defend a PhD thesis that meets these require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ree slides follow that spell out the details of the grounds for award of a PhD and what they me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CTION – JT check slides 3-6 are still up to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F5655AE-DF46-4407-9E4E-1F8BD51DCF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DF77440-684C-49E8-8728-B6C0EFD9039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76BF9AC-40C7-4147-860D-5C143C07B5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C556EEB-B318-42E1-8B9C-6A371F3660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1D0F32B-D970-40A6-A237-7C15202DD2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5AD96BE-E862-47A0-AF19-40E5585B71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4D673DF-F2EA-476B-ACD1-158D018CBA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773-F94F-4D8A-857A-2DB541947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975C-3AA7-495B-A3BD-B9112160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500-87AD-4A2A-A3B6-6241EBD1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E52-1692-4895-8BB9-A47D96EE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CB4A-6FBF-4F52-9A72-D124B662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55FB-734A-4AB4-9972-8A96AA4F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5310-1AF5-4F4F-9E1D-6421E05A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5E7C-DBED-4F48-9D60-1AB20899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9026-F33C-4952-B1ED-487E0A767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0926-89E1-4755-A810-1AEAEDB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C265-F65A-4549-8948-8D2DB5CF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01F0-4570-45DF-9DC4-052F7517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transkills logo resized"/>
          <p:cNvPicPr/>
          <p:nvPr/>
        </p:nvPicPr>
        <p:blipFill>
          <a:blip r:embed="rId2"/>
          <a:stretch/>
        </p:blipFill>
        <p:spPr>
          <a:xfrm>
            <a:off x="6877080" y="5877000"/>
            <a:ext cx="2124000" cy="784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B5D9-9473-4E72-A15A-9867BF8207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28600" y="685800"/>
            <a:ext cx="769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40528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228600" y="152280"/>
            <a:ext cx="7696080" cy="533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6"/>
          <p:cNvSpPr/>
          <p:nvPr/>
        </p:nvSpPr>
        <p:spPr>
          <a:xfrm>
            <a:off x="228600" y="685800"/>
            <a:ext cx="769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Picture 17" descr=""/>
          <p:cNvPicPr/>
          <p:nvPr/>
        </p:nvPicPr>
        <p:blipFill>
          <a:blip r:embed="rId3"/>
          <a:stretch/>
        </p:blipFill>
        <p:spPr>
          <a:xfrm>
            <a:off x="8001000" y="152280"/>
            <a:ext cx="838080" cy="83052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8"/>
          <p:cNvSpPr/>
          <p:nvPr/>
        </p:nvSpPr>
        <p:spPr>
          <a:xfrm>
            <a:off x="304920" y="272880"/>
            <a:ext cx="495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naging Your 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Text Box 19"/>
          <p:cNvSpPr/>
          <p:nvPr/>
        </p:nvSpPr>
        <p:spPr>
          <a:xfrm>
            <a:off x="380880" y="685800"/>
            <a:ext cx="491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chool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Informatics, University 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Edinbur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rps.ed.ac.uk/11-12/regulations/postgrad.php" TargetMode="External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844640"/>
            <a:ext cx="8001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3399"/>
                </a:solidFill>
                <a:latin typeface="Arial"/>
              </a:rPr>
              <a:t>Managing Your Ph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5280" y="2854440"/>
            <a:ext cx="8172360" cy="16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formatics Graduate Schoo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6920" y="1031400"/>
            <a:ext cx="81612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first step: Thesis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773360"/>
            <a:ext cx="8899560" cy="50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early defined and appropriat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priate and realistic research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ervisory team and required resources are 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ess so far is satisfa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bmission in month 9 (or month 15-18 if part-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81612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sis proposal Assessment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4080" y="1773360"/>
            <a:ext cx="8899560" cy="50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port (15-25 pa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al presentation to Review Panel (Supervisor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t least one other) – procedure depends on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ten feedback to you, with copy to Graduat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1197000"/>
            <a:ext cx="8686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University Regulations: </a:t>
            </a:r>
            <a:br>
              <a:rPr sz="2200"/>
            </a:br>
            <a:r>
              <a:rPr b="0" lang="en-GB" sz="2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drps.ed.ac.uk/11-12/regulations/postgrad.php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grounds for award for the degree of PhD by research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0" y="2205000"/>
          <a:ext cx="8899560" cy="5195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205000"/>
                    <a:ext cx="889956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6920" y="1412640"/>
            <a:ext cx="80769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unds for award of PhD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candidate must have demonstrated that they are capabl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4120" y="314748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ursuing original research in the field of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lating particular research projects to the general body of knowledge in the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esenting the results of the research in a critical and scholarly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559908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D Assessment/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6000" y="3141720"/>
            <a:ext cx="55436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ly on your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rmally, by or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844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unds for award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thesis mu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50560" y="2492280"/>
            <a:ext cx="85294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an original work (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e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r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a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ignifica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ribution to knowledge in or understanding of the field of study (how to measure significant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 material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orth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publication (doesn’t have to be published, but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23640" y="907560"/>
            <a:ext cx="456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unds for award -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18880" y="2134800"/>
            <a:ext cx="852948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adequate knowledge of the field of study and relevant literature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ie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terature revie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the exercise of critical judgement with regard to both the candidate’s work and that of other scholars in the same general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7640" y="1341360"/>
            <a:ext cx="517392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unds for award – </a:t>
            </a:r>
            <a:r>
              <a:rPr b="1" lang="en-GB" sz="2800" spc="-1" strike="noStrike">
                <a:solidFill>
                  <a:srgbClr val="a3a3e0"/>
                </a:solidFill>
                <a:latin typeface="Arial"/>
              </a:rPr>
              <a:t>cont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9360" y="226044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 material which presents a unified body of work such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uld reasonably be achieved on the basis of three years postgraduate study and resear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satisfactory in its literary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280" y="1125000"/>
            <a:ext cx="510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rounds for award – </a:t>
            </a:r>
            <a:r>
              <a:rPr b="1" lang="en-GB" sz="2800" spc="-1" strike="noStrike">
                <a:solidFill>
                  <a:srgbClr val="a3a3e0"/>
                </a:solidFill>
                <a:latin typeface="Arial"/>
              </a:rPr>
              <a:t>co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560" y="2637000"/>
            <a:ext cx="9144000" cy="303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ive full and adequate referenc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ve a coherent structure understandable to a scholar in the same general field with regard to intentions, background, methods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18920" y="1412640"/>
            <a:ext cx="559908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D Assessment/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76000" y="3141720"/>
            <a:ext cx="55436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sed only on your 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’s essentially PASS/FAIL (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rections are poss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07:10:21Z</dcterms:created>
  <dc:creator>JonTurner</dc:creator>
  <dc:description/>
  <dc:language>en-US</dc:language>
  <cp:lastModifiedBy> </cp:lastModifiedBy>
  <dcterms:modified xsi:type="dcterms:W3CDTF">2011-09-24T11:29:41Z</dcterms:modified>
  <cp:revision>157</cp:revision>
  <dc:subject/>
  <dc:title>PowerPoint Presentation</dc:title>
</cp:coreProperties>
</file>