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CE2BBD-A89D-4E47-B1DE-ED72A63CB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hape 23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Shape 24"/>
          <p:cNvSpPr/>
          <p:nvPr/>
        </p:nvSpPr>
        <p:spPr>
          <a:xfrm>
            <a:off x="755640" y="5078520"/>
            <a:ext cx="60480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755640" y="498636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hape 50"/>
          <p:cNvSpPr/>
          <p:nvPr/>
        </p:nvSpPr>
        <p:spPr>
          <a:xfrm>
            <a:off x="1106640" y="812880"/>
            <a:ext cx="5344920" cy="400788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Shape 51"/>
          <p:cNvSpPr/>
          <p:nvPr/>
        </p:nvSpPr>
        <p:spPr>
          <a:xfrm>
            <a:off x="755640" y="5078520"/>
            <a:ext cx="604800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55640" y="498672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hape 58"/>
          <p:cNvSpPr/>
          <p:nvPr/>
        </p:nvSpPr>
        <p:spPr>
          <a:xfrm>
            <a:off x="1106640" y="812880"/>
            <a:ext cx="5344920" cy="400788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Shape 59"/>
          <p:cNvSpPr/>
          <p:nvPr/>
        </p:nvSpPr>
        <p:spPr>
          <a:xfrm>
            <a:off x="755640" y="5078520"/>
            <a:ext cx="6048000" cy="47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640" y="498672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hape 65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Shape 66"/>
          <p:cNvSpPr/>
          <p:nvPr/>
        </p:nvSpPr>
        <p:spPr>
          <a:xfrm>
            <a:off x="755640" y="5078520"/>
            <a:ext cx="60480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55640" y="498636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hape 72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8" name="Shape 73"/>
          <p:cNvSpPr/>
          <p:nvPr/>
        </p:nvSpPr>
        <p:spPr>
          <a:xfrm>
            <a:off x="755640" y="5078520"/>
            <a:ext cx="60480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55640" y="498636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hape 80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rnd"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Shape 81"/>
          <p:cNvSpPr/>
          <p:nvPr/>
        </p:nvSpPr>
        <p:spPr>
          <a:xfrm>
            <a:off x="755640" y="5078520"/>
            <a:ext cx="6048000" cy="47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755640" y="4986360"/>
            <a:ext cx="6046560" cy="4993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120" cy="40064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634E-2F2B-4D85-87AA-401536FCD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3640"/>
            <a:ext cx="906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0C5A-53AF-4BBA-A58B-8E0E42FC0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364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364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8510-E5A3-4040-9631-71AF7247F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760" y="176832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880" y="176832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36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760" y="43736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880" y="4373640"/>
            <a:ext cx="291996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116-EF16-47F2-9E8C-CA0CDD8FA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912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73E0-DEB3-4ED1-8C3B-2A64C563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912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0999-A9E2-40D8-8B64-0851774B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67F-13A5-45E7-B714-BE1F451B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E93-250A-4220-9662-1297B8A9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9120" cy="584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0F8-18AB-4E7F-8486-10773ACA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364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DE4E-9E21-4FB3-9052-5542E957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49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364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D1E-5802-436A-B82F-7A4C7A5B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48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3640"/>
            <a:ext cx="9069120" cy="237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2D29-C731-4A8D-9E68-E70AB1AC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9120" cy="1260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9120" cy="4987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44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56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120" cy="5187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hape 21"/>
          <p:cNvSpPr/>
          <p:nvPr/>
        </p:nvSpPr>
        <p:spPr>
          <a:xfrm>
            <a:off x="419040" y="1485000"/>
            <a:ext cx="8640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Killer Titles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Using Entitlement: A tool for promoting discussion around the relationships between a research paper's content, citations, abstract an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1800" spc="-1" strike="noStrike">
                <a:solidFill>
                  <a:srgbClr val="b3b3b3"/>
                </a:solidFill>
                <a:latin typeface="Arial"/>
                <a:ea typeface="Arial"/>
              </a:rPr>
              <a:t>Dr Viccy Adams - Leverhulme Trust Writer in Residence at the School of Informatics, Edinburgh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1800" spc="-1" strike="noStrike">
                <a:solidFill>
                  <a:srgbClr val="b3b3b3"/>
                </a:solidFill>
                <a:latin typeface="Arial"/>
                <a:ea typeface="Arial"/>
              </a:rPr>
              <a:t>Clare Llewellyn - PhD Student, School of Informatics, Edinburgh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hape 85"/>
          <p:cNvSpPr/>
          <p:nvPr/>
        </p:nvSpPr>
        <p:spPr>
          <a:xfrm>
            <a:off x="0" y="-53640"/>
            <a:ext cx="10080360" cy="7666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hape 90"/>
          <p:cNvSpPr/>
          <p:nvPr/>
        </p:nvSpPr>
        <p:spPr>
          <a:xfrm>
            <a:off x="0" y="-68400"/>
            <a:ext cx="10080360" cy="7696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hape 95"/>
          <p:cNvSpPr/>
          <p:nvPr/>
        </p:nvSpPr>
        <p:spPr>
          <a:xfrm>
            <a:off x="0" y="-146160"/>
            <a:ext cx="10080360" cy="78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hape 100"/>
          <p:cNvSpPr/>
          <p:nvPr/>
        </p:nvSpPr>
        <p:spPr>
          <a:xfrm>
            <a:off x="0" y="-217080"/>
            <a:ext cx="10080360" cy="79938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hape 105"/>
          <p:cNvSpPr/>
          <p:nvPr/>
        </p:nvSpPr>
        <p:spPr>
          <a:xfrm>
            <a:off x="0" y="-177120"/>
            <a:ext cx="10080360" cy="79138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hape 110"/>
          <p:cNvSpPr/>
          <p:nvPr/>
        </p:nvSpPr>
        <p:spPr>
          <a:xfrm>
            <a:off x="0" y="-146160"/>
            <a:ext cx="10080360" cy="78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209520"/>
            <a:ext cx="9068760" cy="144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x-non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8760" cy="44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Dr Viccy Adams: vsadams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lare Llewellyn: C.A.llewellyn@sms.ed.ac.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70560"/>
            <a:ext cx="9068760" cy="144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x-non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300320"/>
            <a:ext cx="9068760" cy="6219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Why is a title importan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Signp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H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buNone/>
              <a:tabLst>
                <a:tab algn="l" pos="0"/>
              </a:tabLst>
            </a:pP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0" lang="x-none" sz="40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00"/>
              </a:spcAft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209520"/>
            <a:ext cx="9068760" cy="144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8760" cy="44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2" name="Shape 36"/>
          <p:cNvSpPr/>
          <p:nvPr/>
        </p:nvSpPr>
        <p:spPr>
          <a:xfrm>
            <a:off x="21960" y="67680"/>
            <a:ext cx="10015200" cy="7408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09520"/>
            <a:ext cx="9068760" cy="144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</a:tabLst>
            </a:pPr>
            <a:r>
              <a:rPr b="0" lang="x-none" sz="4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8760" cy="4476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5" name="Shape 43"/>
          <p:cNvSpPr/>
          <p:nvPr/>
        </p:nvSpPr>
        <p:spPr>
          <a:xfrm>
            <a:off x="0" y="1065240"/>
            <a:ext cx="10080360" cy="5151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hape 48"/>
          <p:cNvSpPr/>
          <p:nvPr/>
        </p:nvSpPr>
        <p:spPr>
          <a:xfrm>
            <a:off x="360360" y="1409760"/>
            <a:ext cx="9594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>
              <a:lnSpc>
                <a:spcPct val="93000"/>
              </a:lnSpc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How to Build an Automatic Title Generato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914400" indent="-380880">
              <a:lnSpc>
                <a:spcPct val="93000"/>
              </a:lnSpc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te general titl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80880">
              <a:lnSpc>
                <a:spcPct val="93000"/>
              </a:lnSpc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Investigate titles in the Computer Scienc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80880">
              <a:lnSpc>
                <a:spcPct val="93000"/>
              </a:lnSpc>
              <a:buClr>
                <a:srgbClr val="000000"/>
              </a:buClr>
              <a:buSzPct val="167000"/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Build a rule based text generator (or borrow o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228600">
              <a:lnSpc>
                <a:spcPct val="93000"/>
              </a:lnSpc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Use a grading system to score title produ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hape 55"/>
          <p:cNvSpPr/>
          <p:nvPr/>
        </p:nvSpPr>
        <p:spPr>
          <a:xfrm>
            <a:off x="360360" y="1409760"/>
            <a:ext cx="8640720" cy="60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 algn="just">
              <a:lnSpc>
                <a:spcPct val="93000"/>
              </a:lnSpc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Title Investig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3 main types of 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just">
              <a:lnSpc>
                <a:spcPct val="93000"/>
              </a:lnSpc>
              <a:tabLst>
                <a:tab algn="l" pos="0"/>
              </a:tabLst>
            </a:pPr>
            <a:r>
              <a:rPr b="0" i="1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"Adipose gene expression prior to wait loss can differentiate and weakly predict dietary respons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Descriptive / neutral</a:t>
            </a:r>
            <a:r>
              <a:rPr b="1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i="1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"A worldwide phylogeography for the human X chromosom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Interro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i="1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"Is there rearrangement hotspots for the human genome?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hape 56"/>
          <p:cNvSpPr/>
          <p:nvPr/>
        </p:nvSpPr>
        <p:spPr>
          <a:xfrm>
            <a:off x="1887480" y="6861240"/>
            <a:ext cx="50605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t">
            <a:spAutoFit/>
          </a:bodyPr>
          <a:p>
            <a:pPr>
              <a:lnSpc>
                <a:spcPct val="93000"/>
              </a:lnSpc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Most common type of title is descrip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hape 63"/>
          <p:cNvSpPr/>
          <p:nvPr/>
        </p:nvSpPr>
        <p:spPr>
          <a:xfrm>
            <a:off x="182160" y="1501200"/>
            <a:ext cx="8891280" cy="59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 marL="457200" algn="just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General F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 algn="just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Titles which are questions lead to more downloads but less citations of the pa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Longer titles generally mean less downloads (slight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Titles with colons tend to be longer which leads to fewer downloads and citation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-317520">
              <a:lnSpc>
                <a:spcPct val="93000"/>
              </a:lnSpc>
              <a:buClr>
                <a:srgbClr val="000000"/>
              </a:buClr>
              <a:buSzPct val="58000"/>
              <a:buFont typeface="Courier New"/>
              <a:buChar char="o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(but the number of words and the use of colons increased 1981-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The use of a colon and acronym lead to more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Including a country name means less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Humour means less citations, but more enjoyment - because of a lower perception of cred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Pleasantness means more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317520">
              <a:lnSpc>
                <a:spcPct val="93000"/>
              </a:lnSpc>
              <a:buClr>
                <a:srgbClr val="000000"/>
              </a:buClr>
              <a:buSzPct val="97000"/>
              <a:buFont typeface="Arial"/>
              <a:buChar char="•"/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Google gives higher weighting to title words but not key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hape 70"/>
          <p:cNvSpPr/>
          <p:nvPr/>
        </p:nvSpPr>
        <p:spPr>
          <a:xfrm>
            <a:off x="360360" y="1440000"/>
            <a:ext cx="9658080" cy="50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92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</a:tabLst>
            </a:pPr>
            <a:r>
              <a:rPr b="0" lang="x-none" sz="6000" spc="-1" strike="noStrike">
                <a:solidFill>
                  <a:srgbClr val="000000"/>
                </a:solidFill>
                <a:latin typeface="Arial"/>
                <a:ea typeface="Arial"/>
              </a:rPr>
              <a:t>Investigation: Computer Scien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Based on 10, 000 article titles in the Computer Science Category from arXiv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400" spc="-1" strike="noStrike">
                <a:solidFill>
                  <a:srgbClr val="000000"/>
                </a:solidFill>
                <a:latin typeface="Arial"/>
                <a:ea typeface="Arial"/>
              </a:rPr>
              <a:t>Statistical and part of speech analysis to this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Average length of title = 8.91 wor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hape 77"/>
          <p:cNvSpPr/>
          <p:nvPr/>
        </p:nvSpPr>
        <p:spPr>
          <a:xfrm>
            <a:off x="588960" y="198360"/>
            <a:ext cx="935964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spAutoFit/>
          </a:bodyPr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ommon Sentenc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Noun Phrase Verb Noun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Noun Phrase Preposition No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Determiner Noun Preposition Noun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Verb Noun Phrase Preposition Noun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1800" spc="-1" strike="noStrike">
                <a:solidFill>
                  <a:srgbClr val="000000"/>
                </a:solidFill>
                <a:latin typeface="Arial"/>
                <a:ea typeface="Arial"/>
              </a:rPr>
              <a:t>Adjective Noun Preposition Noun Ph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ommon 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Image, evaluation, study, time, search, logic, network, design, method, algorithm</a:t>
            </a:r>
            <a:r>
              <a:rPr b="0" lang="x-none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ommon Ad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93000"/>
              </a:lnSpc>
              <a:tabLst>
                <a:tab algn="l" pos="0"/>
              </a:tabLst>
            </a:pPr>
            <a:r>
              <a:rPr b="0" lang="x-none" sz="2200" spc="-1" strike="noStrike">
                <a:solidFill>
                  <a:srgbClr val="000000"/>
                </a:solidFill>
                <a:latin typeface="Arial"/>
                <a:ea typeface="Arial"/>
              </a:rPr>
              <a:t>Parallel, intelligent, global, large, polynomial, new, complex, local, distribu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914400">
              <a:lnSpc>
                <a:spcPct val="100000"/>
              </a:lnSpc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3000"/>
              </a:lnSpc>
              <a:tabLst>
                <a:tab algn="l" pos="0"/>
              </a:tabLst>
            </a:pPr>
            <a:r>
              <a:rPr b="0" lang="x-none" sz="3200" spc="-1" strike="noStrike">
                <a:solidFill>
                  <a:srgbClr val="000000"/>
                </a:solidFill>
                <a:latin typeface="Arial"/>
                <a:ea typeface="Arial"/>
              </a:rPr>
              <a:t>Common Punc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Shape 78"/>
          <p:cNvGraphicFramePr/>
          <p:nvPr/>
        </p:nvGraphicFramePr>
        <p:xfrm>
          <a:off x="1743840" y="5642280"/>
          <a:ext cx="3384360" cy="1458720"/>
        </p:xfrm>
        <a:graphic>
          <a:graphicData uri="http://schemas.openxmlformats.org/drawingml/2006/table">
            <a:tbl>
              <a:tblPr/>
              <a:tblGrid>
                <a:gridCol w="1692000"/>
                <a:gridCol w="1692000"/>
              </a:tblGrid>
              <a:tr h="3114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6000" rIns="36000" tIns="51840" bIns="36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000" marR="36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40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</a:pPr>
                      <a:r>
                        <a:rPr b="0" lang="x-none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">
  <a:themeElements>
    <a:clrScheme name="null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cc99"/>
      </a:accent4>
      <a:accent5>
        <a:srgbClr val="3333cc"/>
      </a:accent5>
      <a:accent6>
        <a:srgbClr val="ffffff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808080"/>
      </a:lt2>
      <a:accent1>
        <a:srgbClr val="00cc99"/>
      </a:accent1>
      <a:accent2>
        <a:srgbClr val="3333cc"/>
      </a:accent2>
      <a:accent3>
        <a:srgbClr val="ffffff"/>
      </a:accent3>
      <a:accent4>
        <a:srgbClr val="00cc99"/>
      </a:accent4>
      <a:accent5>
        <a:srgbClr val="3333cc"/>
      </a:accent5>
      <a:accent6>
        <a:srgbClr val="ffffff"/>
      </a:accent6>
      <a:hlink>
        <a:srgbClr val="ccccff"/>
      </a:hlink>
      <a:folHlink>
        <a:srgbClr val="b2b2b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379</Words>
  <Paragraphs>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ccy Adams</cp:lastModifiedBy>
  <dcterms:modified xsi:type="dcterms:W3CDTF">2012-04-16T16:44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6</vt:r8>
  </property>
  <property fmtid="{D5CDD505-2E9C-101B-9397-08002B2CF9AE}" pid="3" name="PresentationFormat">
    <vt:lpwstr>Custom</vt:lpwstr>
  </property>
  <property fmtid="{D5CDD505-2E9C-101B-9397-08002B2CF9AE}" pid="4" name="Slides">
    <vt:r8>16</vt:r8>
  </property>
</Properties>
</file>